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956-E6DD-438E-AAE0-E2A7A28A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203-0CB3-438C-A47F-F3AD138D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2AA-FBC1-466F-8601-0BF361F0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F03-EC22-4940-824A-FC34FC5F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B9B-C3B7-45B6-996C-3D84E1D0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2BB-3206-4D42-9545-DA1B065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38F-B4CF-4119-A9AB-4A13717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1C0-3920-4133-B56B-E7DB43C6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DA5-F332-4AA0-8B9D-3FBCBB8C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6D1-873D-48D1-B7F2-4059500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44A-7F56-40AC-AFCD-5494FBD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2BF-2D94-4335-9F89-F096D31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812-6EC8-415B-95E4-A803D7FB28F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Logo Nativa Ltda"/>
          <p:cNvPicPr/>
          <p:nvPr/>
        </p:nvPicPr>
        <p:blipFill>
          <a:blip r:embed="rId1"/>
          <a:stretch/>
        </p:blipFill>
        <p:spPr>
          <a:xfrm>
            <a:off x="3059280" y="152280"/>
            <a:ext cx="3601800" cy="551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640" y="56606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ULO ESCOBAR V.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TOR EJECU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900" spc="-1" strike="noStrike">
                <a:solidFill>
                  <a:srgbClr val="000000"/>
                </a:solidFill>
                <a:latin typeface="Calibri"/>
              </a:rPr>
              <a:t>Bio Insumos Nativa Ltda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00" y="1844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0920" y="2492280"/>
            <a:ext cx="424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N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bicada en San Ja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dada e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rgida como resultado de Proyecto FI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1998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08360" y="4149720"/>
            <a:ext cx="2948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643280" y="1989000"/>
            <a:ext cx="3810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4500720" y="2205000"/>
            <a:ext cx="4262400" cy="3762360"/>
            <a:chOff x="4500720" y="2205000"/>
            <a:chExt cx="4262400" cy="3762360"/>
          </a:xfrm>
        </p:grpSpPr>
        <p:sp>
          <p:nvSpPr>
            <p:cNvPr id="88" name="Text Box 10"/>
            <p:cNvSpPr/>
            <p:nvPr/>
          </p:nvSpPr>
          <p:spPr>
            <a:xfrm>
              <a:off x="4660560" y="3195000"/>
              <a:ext cx="4102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11" descr="DSCN0985"/>
            <p:cNvPicPr/>
            <p:nvPr/>
          </p:nvPicPr>
          <p:blipFill>
            <a:blip r:embed="rId1"/>
            <a:stretch/>
          </p:blipFill>
          <p:spPr>
            <a:xfrm>
              <a:off x="6390360" y="2205000"/>
              <a:ext cx="2332080" cy="22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2" descr="DSCN1007"/>
            <p:cNvPicPr/>
            <p:nvPr/>
          </p:nvPicPr>
          <p:blipFill>
            <a:blip r:embed="rId2"/>
            <a:stretch/>
          </p:blipFill>
          <p:spPr>
            <a:xfrm>
              <a:off x="4500720" y="2205000"/>
              <a:ext cx="2211480" cy="20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3" descr="DSCN0995"/>
            <p:cNvPicPr/>
            <p:nvPr/>
          </p:nvPicPr>
          <p:blipFill>
            <a:blip r:embed="rId3"/>
            <a:stretch/>
          </p:blipFill>
          <p:spPr>
            <a:xfrm>
              <a:off x="4500720" y="4029120"/>
              <a:ext cx="2050560" cy="19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4" descr="DSCN1006"/>
            <p:cNvPicPr/>
            <p:nvPr/>
          </p:nvPicPr>
          <p:blipFill>
            <a:blip r:embed="rId4"/>
            <a:stretch/>
          </p:blipFill>
          <p:spPr>
            <a:xfrm>
              <a:off x="6551280" y="3915000"/>
              <a:ext cx="2171160" cy="205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3" descr="C:\Users\Pablina Pulgar\Desktop\Logo nativa.jpg"/>
          <p:cNvPicPr/>
          <p:nvPr/>
        </p:nvPicPr>
        <p:blipFill>
          <a:blip r:embed="rId5"/>
          <a:stretch/>
        </p:blipFill>
        <p:spPr>
          <a:xfrm>
            <a:off x="7956720" y="189000"/>
            <a:ext cx="933120" cy="143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pescobar\Mis documentos\PAULO\Nativa\2010\Contruccion\VISTA 1.JPG"/>
          <p:cNvPicPr/>
          <p:nvPr/>
        </p:nvPicPr>
        <p:blipFill>
          <a:blip r:embed="rId6"/>
          <a:stretch/>
        </p:blipFill>
        <p:spPr>
          <a:xfrm>
            <a:off x="4500720" y="4005360"/>
            <a:ext cx="2374920" cy="19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C:\Documents and Settings\pescobar\Mis documentos\PAULO\Nativa\Portada revista del campo.BMP"/>
          <p:cNvPicPr/>
          <p:nvPr/>
        </p:nvPicPr>
        <p:blipFill>
          <a:blip r:embed="rId7"/>
          <a:stretch/>
        </p:blipFill>
        <p:spPr>
          <a:xfrm>
            <a:off x="6721560" y="2205000"/>
            <a:ext cx="1989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BIO INSUMOS NATIVA LT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uestros productos son creados en base a hongos, bacterias y otros microorganismos  nativos de Chile, que buscan solucionar problemas fitopatológicos de importancia económica  en el sector  silvoagropecu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uestro objetivo es ser la primera empresa biopesticidas de Chile con investigación propia y presencia glob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Pablina Pulgar\Desktop\Logo nativa.jpg"/>
          <p:cNvPicPr/>
          <p:nvPr/>
        </p:nvPicPr>
        <p:blipFill>
          <a:blip r:embed="rId1"/>
          <a:stretch/>
        </p:blipFill>
        <p:spPr>
          <a:xfrm>
            <a:off x="7956720" y="189000"/>
            <a:ext cx="9331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afío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77612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r con una normativa acorde y clara  para  la incorporación de los biopesticidas al Registro SAG (Proceso, costo y tiemp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corporar en el Registro de Plaguicida del SAG un código especial para los insumos aptos para A.O. (Facilitador para el productor , asesor y certificad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mentar el desarrollo de insumos ecológicos , a través de líneas especiales de apoyo (bioestimulantes, fertilizante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segurar la inocuidad microbiológica de los insumos utilizados en la A.O. , evitar riesgo aliment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Users\Pablina Pulgar\Desktop\Logo nativa.jpg"/>
          <p:cNvPicPr/>
          <p:nvPr/>
        </p:nvPicPr>
        <p:blipFill>
          <a:blip r:embed="rId1"/>
          <a:stretch/>
        </p:blipFill>
        <p:spPr>
          <a:xfrm>
            <a:off x="7956720" y="260280"/>
            <a:ext cx="933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Una gran oportun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1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corporar las herramientas de producción orgánica al sistema agrícola Chileno, posicionándolo no solo como una potencia alimentaria, sino que también como un productor verde a nivel mundial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Valor Agregado al Producto y al País, acorde a los requerimientos del consumidor , una importante herramienta de marketing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C:\Users\Pablina Pulgar\Desktop\Logo nativa.jpg"/>
          <p:cNvPicPr/>
          <p:nvPr/>
        </p:nvPicPr>
        <p:blipFill>
          <a:blip r:embed="rId1"/>
          <a:stretch/>
        </p:blipFill>
        <p:spPr>
          <a:xfrm>
            <a:off x="7956720" y="260280"/>
            <a:ext cx="933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3:53:08Z</dcterms:created>
  <dc:creator>notebook</dc:creator>
  <dc:description/>
  <dc:language>en-US</dc:language>
  <cp:lastModifiedBy>gpino</cp:lastModifiedBy>
  <dcterms:modified xsi:type="dcterms:W3CDTF">2010-12-27T20:41:29Z</dcterms:modified>
  <cp:revision>28</cp:revision>
  <dc:subject/>
  <dc:title>PRESENTACION COMISION NACIONAL DE AGRICULTURA ORGANICA</dc:title>
</cp:coreProperties>
</file>